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662-3528-498F-AA23-35DD77D206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AFC-AA91-467C-9F77-331B791FB0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E0F-A1E4-4E53-84F6-E4E35355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672-B4B0-4D83-A3E0-69E4667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4A9-8C20-4E07-88F0-60F6ECD3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787-3A8E-4CC4-AA04-09831B90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58A-E14C-4909-894F-2CAD82E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493-8164-4DA5-A9A5-841D43EA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DFB-A753-4EF2-9F84-8BE287E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D1A-73C0-4CBA-8E3A-82B6ACB5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D0C-4C49-4A3C-A76B-654BA71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069-4F91-41F8-B1C3-C861F1AE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FD5-DFAD-4105-82C6-D5730CD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7AA-B24C-4EDC-9B38-BB501E27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FC4-CD94-4D26-8125-4F661287E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oledailleurs.com/rallye-lecture-petites-histoires-de-la-mythologie-a40318044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fr.fnac.be/Francoise-Rachmuhl/ia3163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c00000"/>
                </a:solidFill>
                <a:latin typeface="Castellar"/>
              </a:rPr>
              <a:t>LA MYTHOLOGIE A L’ECOLE ELEMENTAIR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Le feuilleton d'Hermès. Bayard jeunesse"/>
          <p:cNvPicPr/>
          <p:nvPr/>
        </p:nvPicPr>
        <p:blipFill>
          <a:blip r:embed="rId1"/>
          <a:stretch/>
        </p:blipFill>
        <p:spPr>
          <a:xfrm>
            <a:off x="225360" y="182520"/>
            <a:ext cx="1560600" cy="351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ecx.images-amazon.com/images/I/51Xsl5oCEmL._SL110_.jpg"/>
          <p:cNvPicPr/>
          <p:nvPr/>
        </p:nvPicPr>
        <p:blipFill>
          <a:blip r:embed="rId2"/>
          <a:stretch/>
        </p:blipFill>
        <p:spPr>
          <a:xfrm>
            <a:off x="7596360" y="5229360"/>
            <a:ext cx="1223640" cy="14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ecx.images-amazon.com/images/I/51O20s0JU3L._SL110_.jpg"/>
          <p:cNvPicPr/>
          <p:nvPr/>
        </p:nvPicPr>
        <p:blipFill>
          <a:blip r:embed="rId3"/>
          <a:stretch/>
        </p:blipFill>
        <p:spPr>
          <a:xfrm>
            <a:off x="-133200" y="3560760"/>
            <a:ext cx="184608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Les douze travaux d'Hercule"/>
          <p:cNvPicPr/>
          <p:nvPr/>
        </p:nvPicPr>
        <p:blipFill>
          <a:blip r:embed="rId4"/>
          <a:stretch/>
        </p:blipFill>
        <p:spPr>
          <a:xfrm>
            <a:off x="6272280" y="255600"/>
            <a:ext cx="17082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7030a0"/>
                </a:solidFill>
                <a:latin typeface="Calibri"/>
              </a:rPr>
              <a:t>Sitographi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Les si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 l’école d’ailleur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Bout de gomm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Chez Lutin Baza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00000"/>
                </a:solidFill>
                <a:latin typeface="Calibri"/>
              </a:rPr>
              <a:t>L’ECOU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te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MÉ FLEURY, Jules Raymond – La Mythologie racontée aux enfa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3" descr="grece001.jpg"/>
          <p:cNvPicPr/>
          <p:nvPr/>
        </p:nvPicPr>
        <p:blipFill>
          <a:blip r:embed="rId1"/>
          <a:stretch/>
        </p:blipFill>
        <p:spPr>
          <a:xfrm>
            <a:off x="2176560" y="96840"/>
            <a:ext cx="55166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060"/>
                </a:solidFill>
                <a:latin typeface="Calibri"/>
              </a:rPr>
              <a:t>Pourquoi aborder la Mythologie en cycle 2 et en cycle 3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onner des références culturelles et participer à la constitution d’un patrimoine culturel comm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Œuvres artistiques, littérature, film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Un certain nombre d'objectifs relatifs à la lecture littérair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t être atteint par l'étude des récits mythol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Comprendre le mon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cherche des origines, interprétation, questions philosophiques à aborder à partir de certains réc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ider les élèves en difficulté, en échec qui ont peur d’apprend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r l’imagina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c00000"/>
                </a:solidFill>
                <a:latin typeface="Calibri"/>
              </a:rPr>
              <a:t>Prendre en compte les inquiétudes de l’élè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Peu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es monstres, de la violence, de se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faire dévor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(cyclope, minotaure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c00000"/>
                </a:solidFill>
                <a:latin typeface="Calibri"/>
              </a:rPr>
              <a:t>Aider à la construction de l’enf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mythologie aborde des thèmes qui répondent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aux besoins des élève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qui grandissent (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séparation avec la mèr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l’aband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les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sentiment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(amour, jalousie), la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maîtrise de soi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les mauvaises pulsion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* Les textes officiels recommandent de réinvestir les connaissances acquises dans </a:t>
            </a:r>
            <a:r>
              <a:rPr b="1" lang="fr-FR" sz="2200" spc="-1" strike="noStrike">
                <a:solidFill>
                  <a:srgbClr val="ff0000"/>
                </a:solidFill>
                <a:latin typeface="Calibri"/>
              </a:rPr>
              <a:t>le domaine des arts visuel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d'autres disciplines. Les liens créés tout au long du projet entre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les récits mythologiques et leurs représentations artistiques</a:t>
            </a:r>
            <a:r>
              <a:rPr b="0" lang="fr-FR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seront les garants. I l s'agira pour les élèves de caractériser simplement une œuvre d’art, notamment à la lumière des connaissances acquises, et de s'initier à la pluralité des points de v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vailler autour de récits mythologiques se prête facilement à une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approche inter/hypertextuel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effet, le mythe, même s'il est le plus souvent connu par un texte "classique", peut apparaître sous beaucoup de formes de réécriture. Celle-ci définit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l’hypertextualité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comme une reformulation d’un texte-source (passage d’un médium à un autre comme l’opéra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'Éducation nationale veut voir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s'instaurer un dialogue entre les disciplin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our créer une cohérence entre les savoirs et mettre fin à un cloisonnement de la discipline, devenu improductif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n projet sur la mythologie va permettre de travailler sur l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décloisonnement des discip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Un projet  et un travail par thèmes: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 pouvoir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de voler (Icare), d’être immortel, de régner, d’avoir une force surhumaine…)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 monstr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héro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fins tragiqu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Héraclès, Egée…)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 voyag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Ulysse, Œdipe, Dédale…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thème de la mythologie peut être le </a:t>
            </a:r>
            <a:r>
              <a:rPr b="1" lang="fr-FR" sz="3200" spc="-1" strike="noStrike">
                <a:solidFill>
                  <a:srgbClr val="ffff00"/>
                </a:solidFill>
                <a:latin typeface="Calibri"/>
              </a:rPr>
              <a:t>déclencheur de pistes de productions d’écrit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qui seront pour certains abordés lors de ce stag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 com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poser une suite d’image sans texte pour reconstituer le récit et le légen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aginer d’autres épisodes à l’Odyssée, aux travaux d’Herc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mer un ré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vailler sur les lieux, en inv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briquer deux myt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Calibri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ecx.images-amazon.com/images/I/41HQOpdXwqL._SL110_.jpg"/>
          <p:cNvPicPr/>
          <p:nvPr/>
        </p:nvPicPr>
        <p:blipFill>
          <a:blip r:embed="rId1"/>
          <a:stretch/>
        </p:blipFill>
        <p:spPr>
          <a:xfrm>
            <a:off x="395280" y="1484280"/>
            <a:ext cx="1224000" cy="14968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4"/>
          <p:cNvSpPr/>
          <p:nvPr/>
        </p:nvSpPr>
        <p:spPr>
          <a:xfrm>
            <a:off x="1763640" y="15573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 feuilleton d'Hermès : la mythologie grecque en 100 épisod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Muriel Szac et Jean-Manuel Duvi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ecx.images-amazon.com/images/I/51Xsl5oCEmL._SL110_.jpg"/>
          <p:cNvPicPr/>
          <p:nvPr/>
        </p:nvPicPr>
        <p:blipFill>
          <a:blip r:embed="rId2"/>
          <a:stretch/>
        </p:blipFill>
        <p:spPr>
          <a:xfrm>
            <a:off x="395280" y="3141720"/>
            <a:ext cx="1224000" cy="1401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1835280" y="321300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Le feuilleton de Thésée : la mythologie grecque en 100 épisode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uriel Szac et Rémi Saillar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ecx.images-amazon.com/images/I/617fgR0t33L._SL110_.jpg"/>
          <p:cNvPicPr/>
          <p:nvPr/>
        </p:nvPicPr>
        <p:blipFill>
          <a:blip r:embed="rId3"/>
          <a:stretch/>
        </p:blipFill>
        <p:spPr>
          <a:xfrm>
            <a:off x="395280" y="4797360"/>
            <a:ext cx="1368360" cy="170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1979640" y="486900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ythes grec pour les petit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daptés par Heather A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Les douze travaux d'Hercule"/>
          <p:cNvPicPr/>
          <p:nvPr/>
        </p:nvPicPr>
        <p:blipFill>
          <a:blip r:embed="rId1"/>
          <a:stretch/>
        </p:blipFill>
        <p:spPr>
          <a:xfrm>
            <a:off x="324000" y="404640"/>
            <a:ext cx="1652400" cy="2087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124000" y="76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douze travaux d'Hercule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rançoise Rachmühl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ttp://ecx.images-amazon.com/images/I/51qQDtN7t-L._SL110_.jpg"/>
          <p:cNvPicPr/>
          <p:nvPr/>
        </p:nvPicPr>
        <p:blipFill>
          <a:blip r:embed="rId3"/>
          <a:stretch/>
        </p:blipFill>
        <p:spPr>
          <a:xfrm>
            <a:off x="395280" y="2781360"/>
            <a:ext cx="122724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ecx.images-amazon.com/images/I/51O20s0JU3L._SL110_.jpg"/>
          <p:cNvPicPr/>
          <p:nvPr/>
        </p:nvPicPr>
        <p:blipFill>
          <a:blip r:embed="rId4"/>
          <a:stretch/>
        </p:blipFill>
        <p:spPr>
          <a:xfrm>
            <a:off x="2195640" y="2852640"/>
            <a:ext cx="1152360" cy="16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ecx.images-amazon.com/images/I/512BXe4KC8L._SL110_.jpg"/>
          <p:cNvPicPr/>
          <p:nvPr/>
        </p:nvPicPr>
        <p:blipFill>
          <a:blip r:embed="rId5"/>
          <a:stretch/>
        </p:blipFill>
        <p:spPr>
          <a:xfrm>
            <a:off x="3851280" y="2852640"/>
            <a:ext cx="117936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ecx.images-amazon.com/images/I/51nTHKik01L._SL110_.jpg"/>
          <p:cNvPicPr/>
          <p:nvPr/>
        </p:nvPicPr>
        <p:blipFill>
          <a:blip r:embed="rId6"/>
          <a:stretch/>
        </p:blipFill>
        <p:spPr>
          <a:xfrm>
            <a:off x="5508720" y="2852640"/>
            <a:ext cx="1224000" cy="179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http://ecx.images-amazon.com/images/I/51oB11wX1WL._SL110_.jpg"/>
          <p:cNvPicPr/>
          <p:nvPr/>
        </p:nvPicPr>
        <p:blipFill>
          <a:blip r:embed="rId7"/>
          <a:stretch/>
        </p:blipFill>
        <p:spPr>
          <a:xfrm>
            <a:off x="7093080" y="2852640"/>
            <a:ext cx="12268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11"/>
          <p:cNvSpPr/>
          <p:nvPr/>
        </p:nvSpPr>
        <p:spPr>
          <a:xfrm>
            <a:off x="1332000" y="472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s d’ouvrages d’Hélène Montar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0:51:23Z</dcterms:created>
  <dc:creator>hauzafab</dc:creator>
  <dc:description/>
  <dc:language>en-US</dc:language>
  <cp:lastModifiedBy>hauzafab</cp:lastModifiedBy>
  <dcterms:modified xsi:type="dcterms:W3CDTF">2013-02-05T10:30:19Z</dcterms:modified>
  <cp:revision>62</cp:revision>
  <dc:subject/>
  <dc:title>Diapositive 1</dc:title>
</cp:coreProperties>
</file>