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8C1BF-1EC0-4C61-84E8-8CBD60667F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87E1-91AD-4735-BB65-469E6D7D9E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62A5-2703-40D2-8D5B-0A2C6D692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C92F-A6A4-4D3C-88D7-97372F27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75E8-046B-45E6-AF6B-BEF8A3D78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FB10-18DC-4E7A-BDC0-6BAF90F4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82AD-FF7E-41EC-B967-1D5EED33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B533-6055-4918-98B5-0653CCD2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0D08-415F-4EC0-A58D-5B99A8AF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D1AB-AF83-4550-992F-9F8D184E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4D57-E276-477B-9E43-E990B955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0EB-3C33-471A-9B89-993C3EB8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B62-9272-400A-A3FF-65CBBE35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5A3-CDA2-4899-9840-99F5C447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e1e8f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0361-CAD2-4A07-B8C0-3D20C5F70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ecoledailleurs.com/rallye-lecture-petites-histoires-de-la-mythologie-a40318044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fr.fnac.be/Francoise-Rachmuhl/ia3163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c00000"/>
                </a:solidFill>
                <a:latin typeface="Castellar"/>
              </a:rPr>
              <a:t>LA MYTHOLOGIE A L’ECOLE ELEMENTAIRE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Le feuilleton d'Hermès. Bayard jeunesse"/>
          <p:cNvPicPr/>
          <p:nvPr/>
        </p:nvPicPr>
        <p:blipFill>
          <a:blip r:embed="rId1"/>
          <a:stretch/>
        </p:blipFill>
        <p:spPr>
          <a:xfrm>
            <a:off x="225360" y="182520"/>
            <a:ext cx="1560600" cy="35114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http://ecx.images-amazon.com/images/I/51Xsl5oCEmL._SL110_.jpg"/>
          <p:cNvPicPr/>
          <p:nvPr/>
        </p:nvPicPr>
        <p:blipFill>
          <a:blip r:embed="rId2"/>
          <a:stretch/>
        </p:blipFill>
        <p:spPr>
          <a:xfrm>
            <a:off x="7596360" y="5229360"/>
            <a:ext cx="1223640" cy="1403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ecx.images-amazon.com/images/I/51O20s0JU3L._SL110_.jpg"/>
          <p:cNvPicPr/>
          <p:nvPr/>
        </p:nvPicPr>
        <p:blipFill>
          <a:blip r:embed="rId3"/>
          <a:stretch/>
        </p:blipFill>
        <p:spPr>
          <a:xfrm>
            <a:off x="-133200" y="3560760"/>
            <a:ext cx="184608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Les douze travaux d'Hercule"/>
          <p:cNvPicPr/>
          <p:nvPr/>
        </p:nvPicPr>
        <p:blipFill>
          <a:blip r:embed="rId4"/>
          <a:stretch/>
        </p:blipFill>
        <p:spPr>
          <a:xfrm>
            <a:off x="6272280" y="255600"/>
            <a:ext cx="17082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7030a0"/>
                </a:solidFill>
                <a:latin typeface="Calibri"/>
              </a:rPr>
              <a:t>Sitographi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Les sit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</a:t>
            </a:r>
            <a:r>
              <a:rPr b="0" lang="fr-FR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A l’école d’ailleur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Bout de gomme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« Chez Lutin Bazar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00000"/>
                </a:solidFill>
                <a:latin typeface="Calibri"/>
              </a:rPr>
              <a:t>L’ECOUT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te aud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MÉ FLEURY, Jules Raymond – La Mythologie racontée aux enfa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Espace réservé du contenu 3" descr="grece001.jpg"/>
          <p:cNvPicPr/>
          <p:nvPr/>
        </p:nvPicPr>
        <p:blipFill>
          <a:blip r:embed="rId1"/>
          <a:stretch/>
        </p:blipFill>
        <p:spPr>
          <a:xfrm>
            <a:off x="2176560" y="96840"/>
            <a:ext cx="551664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2060"/>
                </a:solidFill>
                <a:latin typeface="Calibri"/>
              </a:rPr>
              <a:t>Pourquoi aborder la Mythologie en cycle 2 et en cycle 3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920" y="1599840"/>
            <a:ext cx="8642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Donner des références culturelles et participer à la constitution d’un patrimoine culturel commu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Œuvres artistiques, littérature, film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Un certain nombre d'objectifs relatifs à la lecture littéraire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ut être atteint par l'étude des récits mytholog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Comprendre le mon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cherche des origines, interprétation, questions philosophiques à aborder à partir de certains réci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ider les élèves en difficulté, en échec qui ont peur d’apprend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velopper l’imaginai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9528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c00000"/>
                </a:solidFill>
                <a:latin typeface="Calibri"/>
              </a:rPr>
              <a:t>Prendre en compte les inquiétudes de l’élèv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Calibri"/>
              </a:rPr>
              <a:t>Peu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es monstres, de la violence, de se </a:t>
            </a:r>
            <a:r>
              <a:rPr b="1" lang="fr-FR" sz="2200" spc="-1" strike="noStrike">
                <a:solidFill>
                  <a:srgbClr val="002060"/>
                </a:solidFill>
                <a:latin typeface="Calibri"/>
              </a:rPr>
              <a:t>faire dévorer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(cyclope, minotaure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c00000"/>
                </a:solidFill>
                <a:latin typeface="Calibri"/>
              </a:rPr>
              <a:t>Aider à la construction de l’enfa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mythologie aborde des thèmes qui répondent </a:t>
            </a:r>
            <a:r>
              <a:rPr b="1" lang="fr-FR" sz="2200" spc="-1" strike="noStrike">
                <a:solidFill>
                  <a:srgbClr val="002060"/>
                </a:solidFill>
                <a:latin typeface="Calibri"/>
              </a:rPr>
              <a:t>aux besoins des élèves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qui grandissent (</a:t>
            </a:r>
            <a:r>
              <a:rPr b="1" lang="fr-FR" sz="2200" spc="-1" strike="noStrike">
                <a:solidFill>
                  <a:srgbClr val="002060"/>
                </a:solidFill>
                <a:latin typeface="Calibri"/>
              </a:rPr>
              <a:t>séparation avec la mèr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2200" spc="-1" strike="noStrike">
                <a:solidFill>
                  <a:srgbClr val="002060"/>
                </a:solidFill>
                <a:latin typeface="Calibri"/>
              </a:rPr>
              <a:t>l’abandon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, les </a:t>
            </a:r>
            <a:r>
              <a:rPr b="1" lang="fr-FR" sz="2200" spc="-1" strike="noStrike">
                <a:solidFill>
                  <a:srgbClr val="002060"/>
                </a:solidFill>
                <a:latin typeface="Calibri"/>
              </a:rPr>
              <a:t>sentiments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(amour, jalousie), la </a:t>
            </a:r>
            <a:r>
              <a:rPr b="1" lang="fr-FR" sz="2200" spc="-1" strike="noStrike">
                <a:solidFill>
                  <a:srgbClr val="002060"/>
                </a:solidFill>
                <a:latin typeface="Calibri"/>
              </a:rPr>
              <a:t>maîtrise de soi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1" lang="fr-FR" sz="2200" spc="-1" strike="noStrike">
                <a:solidFill>
                  <a:srgbClr val="002060"/>
                </a:solidFill>
                <a:latin typeface="Calibri"/>
              </a:rPr>
              <a:t>les mauvaises pulsions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* Les textes officiels recommandent de réinvestir les connaissances acquises dans </a:t>
            </a:r>
            <a:r>
              <a:rPr b="1" lang="fr-FR" sz="2200" spc="-1" strike="noStrike">
                <a:solidFill>
                  <a:srgbClr val="ff0000"/>
                </a:solidFill>
                <a:latin typeface="Calibri"/>
              </a:rPr>
              <a:t>le domaine des arts visuels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dans d'autres disciplines. Les liens créés tout au long du projet entre </a:t>
            </a:r>
            <a:r>
              <a:rPr b="1" lang="fr-FR" sz="2200" spc="-1" strike="noStrike">
                <a:solidFill>
                  <a:srgbClr val="002060"/>
                </a:solidFill>
                <a:latin typeface="Calibri"/>
              </a:rPr>
              <a:t>les récits mythologiques et leurs représentations artistiques</a:t>
            </a:r>
            <a:r>
              <a:rPr b="0" lang="fr-FR" sz="2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en seront les garants. I l s'agira pour les élèves de caractériser simplement une œuvre d’art, notamment à la lumière des connaissances acquises, et de s'initier à la pluralité des points de vu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ravailler autour de récits mythologiques se prête facilement à une </a:t>
            </a: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approche inter/hypertextuell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n effet, le mythe, même s'il est le plus souvent connu par un texte "classique", peut apparaître sous beaucoup de formes de réécriture. Celle-ci définit </a:t>
            </a: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l’hypertextualité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comme une reformulation d’un texte-source (passage d’un médium à un autre comme l’opéra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'Éducation nationale veut voir 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s'instaurer un dialogue entre les discipline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our créer une cohérence entre les savoirs et mettre fin à un cloisonnement de la discipline, devenu improductif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Un projet sur la mythologie va permettre de travailler sur le 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décloisonnement des disciplin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Un projet  et un travail par thèmes:</a:t>
            </a:r>
            <a:r>
              <a:rPr b="1" lang="fr-FR" sz="3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e pouvoir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(de voler (Icare), d’être immortel, de régner, d’avoir une force surhumaine…),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e monstr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es héro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es fins tragique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(Héraclès, Egée…),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le voyage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(Ulysse, Œdipe, Dédale…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e thème de la mythologie peut être le </a:t>
            </a:r>
            <a:r>
              <a:rPr b="1" lang="fr-FR" sz="3200" spc="-1" strike="noStrike">
                <a:solidFill>
                  <a:srgbClr val="ffff00"/>
                </a:solidFill>
                <a:latin typeface="Calibri"/>
              </a:rPr>
              <a:t>déclencheur de pistes de productions d’écrit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qui seront pour certains abordés lors de ce stag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) com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oposer une suite d’image sans texte pour reconstituer le récit et le légen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aginer d’autres épisodes à l’Odyssée, aux travaux d’Herc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sumer un réc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availler sur les lieux, en invent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briquer deux myth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00000"/>
                </a:solidFill>
                <a:latin typeface="Calibri"/>
              </a:rPr>
              <a:t>BIBLIOGRAPH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ecx.images-amazon.com/images/I/41HQOpdXwqL._SL110_.jpg"/>
          <p:cNvPicPr/>
          <p:nvPr/>
        </p:nvPicPr>
        <p:blipFill>
          <a:blip r:embed="rId1"/>
          <a:stretch/>
        </p:blipFill>
        <p:spPr>
          <a:xfrm>
            <a:off x="395280" y="1484280"/>
            <a:ext cx="1224000" cy="1496880"/>
          </a:xfrm>
          <a:prstGeom prst="rect">
            <a:avLst/>
          </a:prstGeom>
          <a:ln w="0">
            <a:noFill/>
          </a:ln>
        </p:spPr>
      </p:pic>
      <p:sp>
        <p:nvSpPr>
          <p:cNvPr id="63" name="ZoneTexte 4"/>
          <p:cNvSpPr/>
          <p:nvPr/>
        </p:nvSpPr>
        <p:spPr>
          <a:xfrm>
            <a:off x="1763640" y="155736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e feuilleton d'Hermès : la mythologie grecque en 100 épisode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Muriel Szac et Jean-Manuel Duviv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http://ecx.images-amazon.com/images/I/51Xsl5oCEmL._SL110_.jpg"/>
          <p:cNvPicPr/>
          <p:nvPr/>
        </p:nvPicPr>
        <p:blipFill>
          <a:blip r:embed="rId2"/>
          <a:stretch/>
        </p:blipFill>
        <p:spPr>
          <a:xfrm>
            <a:off x="395280" y="3141720"/>
            <a:ext cx="1224000" cy="1401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1835280" y="321300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Le feuilleton de Thésée : la mythologie grecque en 100 épisodes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uriel Szac et Rémi Saillard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http://ecx.images-amazon.com/images/I/617fgR0t33L._SL110_.jpg"/>
          <p:cNvPicPr/>
          <p:nvPr/>
        </p:nvPicPr>
        <p:blipFill>
          <a:blip r:embed="rId3"/>
          <a:stretch/>
        </p:blipFill>
        <p:spPr>
          <a:xfrm>
            <a:off x="395280" y="4797360"/>
            <a:ext cx="1368360" cy="1709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1979640" y="486900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Mythes grec pour les petits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daptés par Heather Am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Les douze travaux d'Hercule"/>
          <p:cNvPicPr/>
          <p:nvPr/>
        </p:nvPicPr>
        <p:blipFill>
          <a:blip r:embed="rId1"/>
          <a:stretch/>
        </p:blipFill>
        <p:spPr>
          <a:xfrm>
            <a:off x="324000" y="404640"/>
            <a:ext cx="1652400" cy="2087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2124000" y="765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es douze travaux d'Hercule </a:t>
            </a:r>
            <a:r>
              <a:rPr b="0" lang="fr-FR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rançoise Rachmühl</a:t>
            </a:r>
            <a:r>
              <a:rPr b="1" i="1" lang="fr-FR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http://ecx.images-amazon.com/images/I/51qQDtN7t-L._SL110_.jpg"/>
          <p:cNvPicPr/>
          <p:nvPr/>
        </p:nvPicPr>
        <p:blipFill>
          <a:blip r:embed="rId3"/>
          <a:stretch/>
        </p:blipFill>
        <p:spPr>
          <a:xfrm>
            <a:off x="395280" y="2781360"/>
            <a:ext cx="1227240" cy="1800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http://ecx.images-amazon.com/images/I/51O20s0JU3L._SL110_.jpg"/>
          <p:cNvPicPr/>
          <p:nvPr/>
        </p:nvPicPr>
        <p:blipFill>
          <a:blip r:embed="rId4"/>
          <a:stretch/>
        </p:blipFill>
        <p:spPr>
          <a:xfrm>
            <a:off x="2195640" y="2852640"/>
            <a:ext cx="1152360" cy="1690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http://ecx.images-amazon.com/images/I/512BXe4KC8L._SL110_.jpg"/>
          <p:cNvPicPr/>
          <p:nvPr/>
        </p:nvPicPr>
        <p:blipFill>
          <a:blip r:embed="rId5"/>
          <a:stretch/>
        </p:blipFill>
        <p:spPr>
          <a:xfrm>
            <a:off x="3851280" y="2852640"/>
            <a:ext cx="1179360" cy="172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http://ecx.images-amazon.com/images/I/51nTHKik01L._SL110_.jpg"/>
          <p:cNvPicPr/>
          <p:nvPr/>
        </p:nvPicPr>
        <p:blipFill>
          <a:blip r:embed="rId6"/>
          <a:stretch/>
        </p:blipFill>
        <p:spPr>
          <a:xfrm>
            <a:off x="5508720" y="2852640"/>
            <a:ext cx="1224000" cy="1795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http://ecx.images-amazon.com/images/I/51oB11wX1WL._SL110_.jpg"/>
          <p:cNvPicPr/>
          <p:nvPr/>
        </p:nvPicPr>
        <p:blipFill>
          <a:blip r:embed="rId7"/>
          <a:stretch/>
        </p:blipFill>
        <p:spPr>
          <a:xfrm>
            <a:off x="7093080" y="2852640"/>
            <a:ext cx="1226880" cy="1800360"/>
          </a:xfrm>
          <a:prstGeom prst="rect">
            <a:avLst/>
          </a:prstGeom>
          <a:ln w="0">
            <a:noFill/>
          </a:ln>
        </p:spPr>
      </p:pic>
      <p:sp>
        <p:nvSpPr>
          <p:cNvPr id="75" name="ZoneTexte 11"/>
          <p:cNvSpPr/>
          <p:nvPr/>
        </p:nvSpPr>
        <p:spPr>
          <a:xfrm>
            <a:off x="1332000" y="472428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xemples d’ouvrages d’Hélène Montard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1T10:51:23Z</dcterms:created>
  <dc:creator>hauzafab</dc:creator>
  <dc:description/>
  <dc:language>en-US</dc:language>
  <cp:lastModifiedBy>hauzafab</cp:lastModifiedBy>
  <dcterms:modified xsi:type="dcterms:W3CDTF">2013-02-05T10:30:19Z</dcterms:modified>
  <cp:revision>62</cp:revision>
  <dc:subject/>
  <dc:title>Diapositive 1</dc:title>
</cp:coreProperties>
</file>