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00EA-4879-4A7D-AAE7-EA8201CD973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E539D-FC9F-4688-B850-6994CEACD68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BB31-E256-4821-9EED-E647DAF9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39BF-D911-44BB-A013-36BEA64D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B72-DCAD-420B-AC21-FB0C1CFF5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5325-9F20-4EBD-BC0B-B81A561DF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777-8223-4AD7-BB21-35EE983C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99F6-9FB0-4F85-B209-E2341FCF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F5A6-EEE7-469E-8E2E-C5933C73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3398-041E-49DE-A85B-6EE7F641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D890-FCD1-4499-8DDD-3FA46E2D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3C6-7977-4F82-A302-E4BDD16B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6084-DCA4-417E-A2FB-44B2E390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890D-2197-4593-BA11-A8BBBA49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ddb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E9B7-4210-45D7-AF7C-391DDC3918C3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lemi.org/fr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es.spqr.fr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3" descr="ANd9GcQgXLZs1bOFKJwrKw4ku61e0mQ5-bp0zo_t5V-9IRq8fHkq-EjaEbCoRHEL"/>
          <p:cNvPicPr/>
          <p:nvPr/>
        </p:nvPicPr>
        <p:blipFill>
          <a:blip r:embed="rId1"/>
          <a:stretch/>
        </p:blipFill>
        <p:spPr>
          <a:xfrm>
            <a:off x="6948360" y="260280"/>
            <a:ext cx="190512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2918996463_5cb5538a97"/>
          <p:cNvPicPr/>
          <p:nvPr/>
        </p:nvPicPr>
        <p:blipFill>
          <a:blip r:embed="rId2"/>
          <a:stretch/>
        </p:blipFill>
        <p:spPr>
          <a:xfrm>
            <a:off x="250920" y="260280"/>
            <a:ext cx="3527280" cy="21938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8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990000"/>
                </a:solidFill>
                <a:latin typeface="Showcard Gothic"/>
              </a:rPr>
              <a:t>CREATION DE NOTRE </a:t>
            </a:r>
            <a:r>
              <a:rPr b="1" lang="fr-FR" sz="6600" spc="-1" strike="noStrike">
                <a:solidFill>
                  <a:srgbClr val="990000"/>
                </a:solidFill>
                <a:latin typeface="Showcard Gothic"/>
              </a:rPr>
              <a:t>CYBER-MAGAZIN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5892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3214800" y="2585880"/>
            <a:ext cx="27144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7"/>
          <p:cNvSpPr/>
          <p:nvPr/>
        </p:nvSpPr>
        <p:spPr>
          <a:xfrm>
            <a:off x="3214800" y="2585880"/>
            <a:ext cx="2714400" cy="16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9"/>
          <p:cNvSpPr/>
          <p:nvPr/>
        </p:nvSpPr>
        <p:spPr>
          <a:xfrm>
            <a:off x="155520" y="46080"/>
            <a:ext cx="2714760" cy="16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MonQuotidien101125"/>
          <p:cNvPicPr/>
          <p:nvPr/>
        </p:nvPicPr>
        <p:blipFill>
          <a:blip r:embed="rId3"/>
          <a:stretch/>
        </p:blipFill>
        <p:spPr>
          <a:xfrm>
            <a:off x="5826240" y="4076640"/>
            <a:ext cx="1758960" cy="252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ANd9GcQgNyUo5MY4MUCqQpBaYfwM250yuqrS6UnO5RMQFgyY3-U8m9wUHw"/>
          <p:cNvPicPr/>
          <p:nvPr/>
        </p:nvPicPr>
        <p:blipFill>
          <a:blip r:embed="rId4"/>
          <a:stretch/>
        </p:blipFill>
        <p:spPr>
          <a:xfrm>
            <a:off x="1403280" y="4221000"/>
            <a:ext cx="18558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964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l va vous falloir donner dans les premières lignes le </a:t>
            </a: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maximum d’information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 Pour cela, répondez aux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cinq questions essentiell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i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e sujet? De qui ou de quoi est-il ques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oi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 s’est-il passé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Où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e lieu de l’évènemen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Quand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 est la date de l’évènemen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Pourquoi 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quelles en sont les causes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pouvez proposer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des citation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t une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illustration de l’articl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accompagnée d’une légen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Rédiger une trace écrit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Ecrit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construction d’un outil pour aider les élèves à produire leur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 partir d’exemples d’articles, proposer une silhouette d’un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outil pour planifier la réd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Construire la grille d’écritur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 la propos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70c0"/>
                </a:solidFill>
                <a:uFillTx/>
                <a:latin typeface="Arial"/>
              </a:rPr>
              <a:t>LE TI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La rédaction du titre n'est pas à néglig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Il sera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accrocheu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informati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3200" spc="-1" strike="noStrike">
                <a:solidFill>
                  <a:srgbClr val="990000"/>
                </a:solidFill>
                <a:latin typeface="Arial"/>
              </a:rPr>
              <a:t>incitati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titre doit contenir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une spécificité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l'article et </a:t>
            </a:r>
            <a:r>
              <a:rPr b="1" lang="fr-FR" sz="3200" spc="-1" strike="noStrike">
                <a:solidFill>
                  <a:srgbClr val="c00000"/>
                </a:solidFill>
                <a:latin typeface="Arial"/>
              </a:rPr>
              <a:t>être court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 Il est souvent plus indiqué de le rédiger en dernier lieu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0070c0"/>
                </a:solidFill>
                <a:uFillTx/>
                <a:latin typeface="Arial"/>
              </a:rPr>
              <a:t>Exemp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Phrase exclamativ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alte au stage inutil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Interrogation préci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l est le secret de la réussite d’un stag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Question / répon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ussir un stage ? C’est à la portée de t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Affirmation / explica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Vous pouvez réussir en production d’écrits : un guide complet pour les stagi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Accrochage par le nombr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0 conseils pour réussir so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Rimes, allitérations, assonanc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s d’âge pour un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Inversion des mots-clé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tudier pour produire des écrits, produire des écrits pour étud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990000"/>
                </a:solidFill>
                <a:latin typeface="Jokerman"/>
              </a:rPr>
              <a:t>Découvrir la press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orsqu’on désire aborder avec les élèves l’éducation aux médias, on peut se tourner vers le Centre de Liaison de l’Enseignement et des Médias d’Information ou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EMI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000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990000"/>
                </a:solidFill>
                <a:latin typeface="Jokerman"/>
              </a:rPr>
              <a:t>LES ACTIVIT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roposer différents journaux et revues et demander aux élèves de les feuilleter. Puis ils doivent ensuit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lasser les journaux selon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no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forma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couleur/noir et blanc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fr-FR" sz="2400" spc="-1" strike="noStrike">
                <a:solidFill>
                  <a:srgbClr val="6600cc"/>
                </a:solidFill>
                <a:latin typeface="Arial"/>
              </a:rPr>
              <a:t>périodic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quotidien, hebdomadaire, mensuel..),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ype de papi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journal/ glacé), </a:t>
            </a:r>
            <a:r>
              <a:rPr b="1" lang="fr-FR" sz="2400" spc="-1" strike="noStrike">
                <a:solidFill>
                  <a:srgbClr val="990000"/>
                </a:solidFill>
                <a:latin typeface="Arial"/>
              </a:rPr>
              <a:t>type de pres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T.V, scientifique, information..) et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public vis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jeunesse, femmes, hommes ou pour les deu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Relever les différentes rubr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du journal ou de la revue. Relever ces rubriques et les </a:t>
            </a:r>
            <a:r>
              <a:rPr b="1" lang="fr-FR" sz="2400" spc="-1" strike="noStrike">
                <a:solidFill>
                  <a:srgbClr val="660066"/>
                </a:solidFill>
                <a:latin typeface="Arial"/>
              </a:rPr>
              <a:t>compar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pour faire ressortir des rubriques commu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c000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c00000"/>
                </a:solidFill>
                <a:latin typeface="Arial"/>
              </a:rPr>
              <a:t>LES RUBRIQ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informations sont souvent classées dans différentes rubriques. Celles que l’on retrouve souvent dans les journaux so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nfo du j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nfo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fois info rég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on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ourrier des lect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Econom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Faits divers, jus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étéo, programmes T.V, petites annon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’intéresser ensuite à </a:t>
            </a:r>
            <a:r>
              <a:rPr b="1" lang="fr-FR" sz="2800" spc="-1" strike="noStrike">
                <a:solidFill>
                  <a:srgbClr val="990000"/>
                </a:solidFill>
                <a:latin typeface="Arial"/>
              </a:rPr>
              <a:t>la une de ces journaux et de ces rev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our comprendre l'organisation d'u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aborder le choix et la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hiérarchisation de l'informati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n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e journaux franç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Libération"/>
          <p:cNvPicPr/>
          <p:nvPr/>
        </p:nvPicPr>
        <p:blipFill>
          <a:blip r:embed="rId2"/>
          <a:stretch/>
        </p:blipFill>
        <p:spPr>
          <a:xfrm>
            <a:off x="5940360" y="2924280"/>
            <a:ext cx="2925720" cy="367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5" name="Picture 9" descr="Portada de Aujourd'hui en France (France)"/>
          <p:cNvPicPr/>
          <p:nvPr/>
        </p:nvPicPr>
        <p:blipFill>
          <a:blip r:embed="rId3"/>
          <a:stretch/>
        </p:blipFill>
        <p:spPr>
          <a:xfrm>
            <a:off x="250920" y="2565360"/>
            <a:ext cx="3060720" cy="4145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9" descr="Portada de Aujourd'hui en France (France)"/>
          <p:cNvPicPr/>
          <p:nvPr/>
        </p:nvPicPr>
        <p:blipFill>
          <a:blip r:embed="rId1"/>
          <a:stretch/>
        </p:blipFill>
        <p:spPr>
          <a:xfrm>
            <a:off x="2340000" y="907920"/>
            <a:ext cx="38815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ZoneTexte 4"/>
          <p:cNvSpPr/>
          <p:nvPr/>
        </p:nvSpPr>
        <p:spPr>
          <a:xfrm>
            <a:off x="684360" y="2492280"/>
            <a:ext cx="151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Gros 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Connecteur droit avec flèche 6"/>
          <p:cNvCxnSpPr/>
          <p:nvPr/>
        </p:nvCxnSpPr>
        <p:spPr>
          <a:xfrm flipV="1">
            <a:off x="1979280" y="2636640"/>
            <a:ext cx="577080" cy="72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" name="ZoneTexte 8"/>
          <p:cNvSpPr/>
          <p:nvPr/>
        </p:nvSpPr>
        <p:spPr>
          <a:xfrm>
            <a:off x="250920" y="3429000"/>
            <a:ext cx="1512720" cy="100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hapea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etit texte qui présente l’art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Connecteur droit avec flèche 9"/>
          <p:cNvCxnSpPr/>
          <p:nvPr/>
        </p:nvCxnSpPr>
        <p:spPr>
          <a:xfrm flipV="1">
            <a:off x="1692360" y="3357000"/>
            <a:ext cx="79272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" name="ZoneTexte 13"/>
          <p:cNvSpPr/>
          <p:nvPr/>
        </p:nvSpPr>
        <p:spPr>
          <a:xfrm>
            <a:off x="395280" y="5445000"/>
            <a:ext cx="1512720" cy="10076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lète l’information de l’artic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Connecteur droit avec flèche 14"/>
          <p:cNvCxnSpPr/>
          <p:nvPr/>
        </p:nvCxnSpPr>
        <p:spPr>
          <a:xfrm flipV="1">
            <a:off x="1907640" y="5228640"/>
            <a:ext cx="793080" cy="432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3" name="ZoneTexte 15"/>
          <p:cNvSpPr/>
          <p:nvPr/>
        </p:nvSpPr>
        <p:spPr>
          <a:xfrm>
            <a:off x="6875640" y="4005360"/>
            <a:ext cx="1512720" cy="14338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ccr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urte formule en 1ere page renvoyant à un article en page intérie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cteur droit avec flèche 17"/>
          <p:cNvCxnSpPr>
            <a:stCxn id="73" idx="1"/>
          </p:cNvCxnSpPr>
          <p:nvPr/>
        </p:nvCxnSpPr>
        <p:spPr>
          <a:xfrm flipH="1" flipV="1">
            <a:off x="5940000" y="4436280"/>
            <a:ext cx="936000" cy="291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Connecteur droit avec flèche 18"/>
          <p:cNvCxnSpPr>
            <a:stCxn id="73" idx="1"/>
          </p:cNvCxnSpPr>
          <p:nvPr/>
        </p:nvCxnSpPr>
        <p:spPr>
          <a:xfrm flipH="1">
            <a:off x="5940000" y="4727520"/>
            <a:ext cx="936000" cy="286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Connecteur droit avec flèche 21"/>
          <p:cNvCxnSpPr>
            <a:stCxn id="73" idx="1"/>
          </p:cNvCxnSpPr>
          <p:nvPr/>
        </p:nvCxnSpPr>
        <p:spPr>
          <a:xfrm flipH="1">
            <a:off x="5940000" y="4727520"/>
            <a:ext cx="936000" cy="573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Connecteur droit avec flèche 24"/>
          <p:cNvCxnSpPr>
            <a:stCxn id="73" idx="0"/>
          </p:cNvCxnSpPr>
          <p:nvPr/>
        </p:nvCxnSpPr>
        <p:spPr>
          <a:xfrm flipH="1" flipV="1">
            <a:off x="6084360" y="1988280"/>
            <a:ext cx="1548720" cy="201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" name="ZoneTexte 27"/>
          <p:cNvSpPr/>
          <p:nvPr/>
        </p:nvSpPr>
        <p:spPr>
          <a:xfrm>
            <a:off x="324000" y="1916280"/>
            <a:ext cx="15112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Sur ti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cteur droit avec flèche 29"/>
          <p:cNvCxnSpPr>
            <a:stCxn id="78" idx="3"/>
          </p:cNvCxnSpPr>
          <p:nvPr/>
        </p:nvCxnSpPr>
        <p:spPr>
          <a:xfrm>
            <a:off x="1835280" y="2101320"/>
            <a:ext cx="721440" cy="104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Sélectionner les trois plus gros titres de chaque journal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Quels sont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les sujets les plus important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 jour-là ? </a:t>
            </a: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Sont-ils identique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l’ensemble des journaux étudiés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Les titres sont-ils accompagné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’articles, de surtitres, de sous-titres, de photos, d’illustrations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u de renvois aux pages intérieures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00000"/>
                </a:solidFill>
                <a:latin typeface="Arial"/>
              </a:rPr>
              <a:t>Dans quelles rubriques sont-ils développé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: s’agit-il des mêmes rubriques d’un journal à l’autre pour un même sujet ?     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CLEM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Berlin Sans FB Demi"/>
              </a:rPr>
              <a:t>CRÉER NOTRE JOUR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1) Imaginons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le titr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 notre jour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) Faire un choix quant au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forma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didapag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ou logiciel « </a:t>
            </a:r>
            <a:r>
              <a:rPr b="1" lang="fr-FR" sz="3200" spc="-1" strike="noStrike">
                <a:solidFill>
                  <a:srgbClr val="660066"/>
                </a:solidFill>
                <a:latin typeface="Arial"/>
              </a:rPr>
              <a:t>Fais ton journa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 » ou les deux en même temps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périodicit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hebdomadai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4) Les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différentes rubriques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eront abordées au cours de la semaine! Avez-vous des envies particuliè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solidFill>
            <a:srgbClr val="aceeaf"/>
          </a:solidFill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c00000"/>
                </a:solidFill>
                <a:latin typeface="Arial"/>
              </a:rPr>
              <a:t>ECRIRE UN ARTI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Votre article va devoir comporte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surtitre ou casquette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 dessus du titre, en caractères plus petits est souvent un titre de  rubrique et une courte introduction vers le tit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tit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Il doit inciter à la lecture.  Pour cela il doit être accrocheur, bref et infor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Un chapea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: texte d’introduction qui coiffe l’article présenté en caractère gras. En quelques lignes, il présente l’essentiel de l’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L’atta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st la première phrase du premier paragraphe. Elle doit surprendre le lecteur et l’inciter à lire la su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Arial"/>
              </a:rPr>
              <a:t>Des intertitre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tructurent et relancent l’intérêt lorsque le texte est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7T14:18:59Z</dcterms:created>
  <dc:creator>Fabrice hAUZAY</dc:creator>
  <dc:description/>
  <dc:language>en-US</dc:language>
  <cp:lastModifiedBy>hauzafab</cp:lastModifiedBy>
  <dcterms:modified xsi:type="dcterms:W3CDTF">2013-02-05T12:52:21Z</dcterms:modified>
  <cp:revision>35</cp:revision>
  <dc:subject/>
  <dc:title>CREATION DE NOTRE CYBER-MAGAZINE.</dc:title>
</cp:coreProperties>
</file>